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078D0-95BD-4027-8CDB-70DE96431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6BCC5-6D34-43CF-94E1-B97845E74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56DE6-7C3F-480F-AF89-B04184697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AF0A1-6E0D-4B57-8049-674DF76E3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30B4D-3644-452F-B8D2-3CB0CAC75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C02F5-449C-4B90-B353-42E82615A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2D38E-CFEA-4752-BC3B-518A43C01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282B4-9DC7-4429-BEBA-67B86D49E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992AA-DAB2-42C9-8ED4-DE5DBBAF9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79AAA-A633-4CE5-AB93-B1C1FA706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FACF1-2F56-43F0-806E-2F2A860BD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FB4BF-64B4-4640-8E6F-EE130D35E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F46FB-1A3F-442F-9A39-7C5BCFADA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EF0B0-06D3-4BC1-B647-7E57613C7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A1A67-A0FA-48DD-8C2D-FC518D990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56B90-0630-4CB2-82E8-A91F2EE15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EF3C7-2452-4C39-BEB0-AE8153DE2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84BF1-B790-4493-9DA0-98901EFD1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CCD30-6505-49B5-BFAC-52103733A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2E749-105F-4676-8A6F-BDFC5B565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E8FEC-5813-45E7-96CB-6EB4420E5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359F9-F1DA-4816-A931-5ADD3D333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2EBE9-4D3D-4FB7-96F6-8BD09BA4A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4AA9E-24D5-4847-A5D6-43A2D3924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90600"/>
            <a:chOff x="0" y="0"/>
            <a:chExt cx="8686800" cy="489060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21640"/>
              <a:ext cx="8305920" cy="182520"/>
              <a:chOff x="380880" y="142164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2164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796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69040"/>
            <a:ext cx="19810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6544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77349-18D9-4D98-9476-8317FF02FA5A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9096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58720"/>
            <a:chOff x="0" y="0"/>
            <a:chExt cx="8763120" cy="595872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14320"/>
              <a:ext cx="8763120" cy="2444400"/>
              <a:chOff x="0" y="3514320"/>
              <a:chExt cx="8763120" cy="244440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14320"/>
                <a:ext cx="77724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43280"/>
                <a:ext cx="764856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895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4600"/>
              <a:ext cx="8077320" cy="303480"/>
              <a:chOff x="635040" y="534600"/>
              <a:chExt cx="8077320" cy="30348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4600"/>
                <a:ext cx="2438640" cy="3034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724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69040"/>
            <a:ext cx="190476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65440"/>
            <a:ext cx="289548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5185D-38C6-47B5-ACDD-24ABD930FFD7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Object 4" descr=""/>
          <p:cNvPicPr/>
          <p:nvPr/>
        </p:nvPicPr>
        <p:blipFill>
          <a:blip r:embed="rId1"/>
          <a:stretch/>
        </p:blipFill>
        <p:spPr>
          <a:xfrm>
            <a:off x="825480" y="1577880"/>
            <a:ext cx="5118120" cy="495936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86920" y="343080"/>
            <a:ext cx="7417080" cy="10080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ru-RU" sz="1400" spc="-1" strike="noStrike">
                <a:solidFill>
                  <a:srgbClr val="330033"/>
                </a:solidFill>
                <a:latin typeface="Times New Roman"/>
              </a:rPr>
              <a:t>ПРОЕКТ «СТРУКТУРА МУНИЦИПАЛЬНОГО ВНУТРЕННЕГО ДОЛГА НА 2021 ГОД И ПЛАНОВЫЙ ПЕРИОД 2022-2023 ГГ. (млн.руб.)»</a:t>
            </a: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6156360" y="1638360"/>
          <a:ext cx="2232000" cy="3379680"/>
        </p:xfrm>
        <a:graphic>
          <a:graphicData uri="http://schemas.openxmlformats.org/drawingml/2006/table">
            <a:tbl>
              <a:tblPr/>
              <a:tblGrid>
                <a:gridCol w="22320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ы заимствований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едиты кредитных организаций в валюте Российской Федераци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юджетные кредиты от других бюджетов бюджетной системы Российской Федерации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00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униципальные гарантии Дальнереченского городского округ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Куранова</cp:lastModifiedBy>
  <dcterms:modified xsi:type="dcterms:W3CDTF">2020-12-15T07:40:13Z</dcterms:modified>
  <cp:revision>45</cp:revision>
  <dc:subject/>
  <dc:title>Структура собственных доходов на 2016 год бюджета Дальнереченского городского округа</dc:title>
</cp:coreProperties>
</file>